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1F876-B54C-4D41-A906-B68BB4AA325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1DA23-9E0C-4D8C-BBB8-7C435C911F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8D53B-511E-4DE5-864F-E94CB0ADB9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Réforme systém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Objectif diminuer 50% en 20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37EAE-D996-4959-AA75-7B994BC656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95E-C11E-4148-B3E4-CD2525B1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1B6-3BD2-4ADE-84D4-492B901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312-A43B-4CD4-B1F4-F50C2D11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653-C44A-4BDD-9631-01185E38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DF6B-EAC6-469E-91A8-0F959630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1A0-3E8E-4BA4-AAC8-A29862CD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67DA-E70D-404B-A78C-D2B5964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DC91-47AE-40EC-A433-A3EC54A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EF7-433D-4FCB-8F37-90BEBDE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FC18-54A1-46E8-A5DC-1051EF1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B13B-116C-430A-B91D-9940C80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71B-D49A-48E9-A7BD-FF495EB1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F238-8FAD-4874-90FB-B6F3A2B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FB1-5F60-41F2-BABA-17B17F4B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0E5C-244B-46EE-8EF3-F5026D6D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E753-956D-4646-9CDF-948E86E9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8540-3E88-4E4E-B835-C98739AF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F522-A5DB-4D76-BF01-EC73148B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D5A4-1C44-44DC-BB4A-F64BA54B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6F1E-8B7D-4E33-9D4C-27A519C7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5522-6951-48FA-8285-43B0AA63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2C90-C6BF-45C0-99A2-B9FA7DFC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589-1844-4B28-930C-179BC2F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2314-FF31-44A4-96E4-69FA213C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CA2B-EABF-47D5-A014-FD65F466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AD58-2A2B-4ACE-87DB-4306FFB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CA42-950D-4EF3-9C6E-4B11E8A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9442-35B8-4BE4-B0B2-7BF9DAFF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A384-B551-452F-AB6F-94BE1B2E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1506-78E3-4516-9A5A-80B0415A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CEC-1DBB-4ECD-BD90-459346D5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2DE-D806-44F4-BC6F-EDA47B5C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444-C92E-42C6-8EB2-98159282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D96-5B68-4894-B5DF-63567A2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294-41C7-488C-A3D2-88884C8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7EF-90AD-4BE9-9862-967F6F62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FD517-DAD8-4DE7-AEC2-B46988C53BF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AE8DD-251D-471D-9DE1-C64589A36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5" descr="filet.jpg"/>
          <p:cNvPicPr/>
          <p:nvPr/>
        </p:nvPicPr>
        <p:blipFill>
          <a:blip r:embed="rId2"/>
          <a:srcRect l="0" t="38546" r="0" b="0"/>
          <a:stretch/>
        </p:blipFill>
        <p:spPr>
          <a:xfrm>
            <a:off x="0" y="6526080"/>
            <a:ext cx="9140760" cy="33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778CB-9F2F-4335-89DC-CE72D52DD29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D4A77-BE6B-44B4-BED7-F3B339A9B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5" descr="filet.jpg"/>
          <p:cNvPicPr/>
          <p:nvPr/>
        </p:nvPicPr>
        <p:blipFill>
          <a:blip r:embed="rId2"/>
          <a:srcRect l="0" t="38546" r="0" b="0"/>
          <a:stretch/>
        </p:blipFill>
        <p:spPr>
          <a:xfrm>
            <a:off x="0" y="6526080"/>
            <a:ext cx="9140760" cy="331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18829-DFCB-4F5D-B2EA-1C722F9F31F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47E5E-59C0-478A-AB77-918609E65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5480" y="2431800"/>
            <a:ext cx="7500960" cy="19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BE" sz="3200" spc="-1" strike="noStrike">
                <a:solidFill>
                  <a:srgbClr val="f4aa00"/>
                </a:solidFill>
                <a:latin typeface="Calibri"/>
              </a:rPr>
              <a:t>Quelles priorités et politiques pour lutter contre le décrochage scolaire et quelle place pour les famil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5" descr="filet.jpg"/>
          <p:cNvPicPr/>
          <p:nvPr/>
        </p:nvPicPr>
        <p:blipFill>
          <a:blip r:embed="rId1"/>
          <a:srcRect l="0" t="38546" r="0" b="0"/>
          <a:stretch/>
        </p:blipFill>
        <p:spPr>
          <a:xfrm>
            <a:off x="0" y="6526080"/>
            <a:ext cx="9140760" cy="3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FWB_Logo_V_Quadri"/>
          <p:cNvPicPr/>
          <p:nvPr/>
        </p:nvPicPr>
        <p:blipFill>
          <a:blip r:embed="rId2"/>
          <a:stretch/>
        </p:blipFill>
        <p:spPr>
          <a:xfrm>
            <a:off x="3666960" y="341280"/>
            <a:ext cx="17114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Calibri"/>
              </a:rPr>
              <a:t>Les constats du décrochage en Fédération Wallonie - Brux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Espace réservé du contenu 3" descr=""/>
          <p:cNvPicPr/>
          <p:nvPr/>
        </p:nvPicPr>
        <p:blipFill>
          <a:blip r:embed="rId1"/>
          <a:stretch/>
        </p:blipFill>
        <p:spPr>
          <a:xfrm>
            <a:off x="977760" y="1654200"/>
            <a:ext cx="71755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Calibri"/>
              </a:rPr>
              <a:t>Les constats du décrochage en Fédération Wallonie - Brux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Espace réservé du contenu 9" descr=""/>
          <p:cNvPicPr/>
          <p:nvPr/>
        </p:nvPicPr>
        <p:blipFill>
          <a:blip r:embed="rId1"/>
          <a:stretch/>
        </p:blipFill>
        <p:spPr>
          <a:xfrm>
            <a:off x="571680" y="2097000"/>
            <a:ext cx="81151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Evolution de l'absentéism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2015-2016 : 31.879 dossi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2016-2017 : 35.388 doss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2017-2018 : 43.182 doss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Calibri"/>
              </a:rPr>
              <a:t>Les constats du décrochage en Fédération Wallonie - Brux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Calibri"/>
              </a:rPr>
              <a:t>Les réponses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Espace réservé du contenu 3" descr=""/>
          <p:cNvPicPr/>
          <p:nvPr/>
        </p:nvPicPr>
        <p:blipFill>
          <a:blip r:embed="rId1"/>
          <a:srcRect l="27504" t="36388" r="40724" b="11248"/>
          <a:stretch/>
        </p:blipFill>
        <p:spPr>
          <a:xfrm>
            <a:off x="2523960" y="1800360"/>
            <a:ext cx="40960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Calibri"/>
              </a:rPr>
              <a:t>Les grands chant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4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Rôle de l'administration dans la prise en charge du décroc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Différenciation en fonction des parc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Obligation scolaire à partir de 5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Place des parents dans l'institution "écol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Calibri"/>
              </a:rPr>
              <a:t>Avantage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Recréer du lien famille-école via les acteurs loc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Plan de pilo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Appui aux écoles dans le développement d'initi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1:47:22Z</dcterms:created>
  <dc:creator>Quentin Stevens</dc:creator>
  <dc:description/>
  <dc:language>en-US</dc:language>
  <cp:lastModifiedBy>Diane Englebert</cp:lastModifiedBy>
  <cp:lastPrinted>2018-05-25T15:07:37Z</cp:lastPrinted>
  <dcterms:modified xsi:type="dcterms:W3CDTF">2019-09-12T15:22:50Z</dcterms:modified>
  <cp:revision>601</cp:revision>
  <dc:subject/>
  <dc:title>Présentation PowerPoint</dc:title>
</cp:coreProperties>
</file>